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17EE-2F27-4C9E-8866-0D3C11D08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0956-E3CF-4B01-BD47-4D8DB9BCB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9153-FAA7-4D2C-9D86-83E9CB83C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F16A-B8F0-42C8-8E1A-DE4AF1B3B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80F9-B5B5-4C2A-B79E-7C611CADE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0537-3FA7-41B0-BE43-75C08DBC9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C3FF-6D20-4A09-BC36-015F65CB7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82E1-F555-47D2-82C1-56F10B134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5A5C-2A31-479F-B55C-71E2CB60A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ECFC-4F35-4684-894D-FE38975F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AC97-EF1C-42E6-A6D4-E4D833DF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B44B-D9ED-4EE1-93AA-465E9A66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BB482-FE46-4F2C-A75F-A6A316894BA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24000" y="1412640"/>
            <a:ext cx="453528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9933"/>
                </a:solidFill>
                <a:latin typeface="Arial"/>
              </a:rPr>
              <a:t>www.FreepptBackgrounds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6"/>
          <p:cNvSpPr/>
          <p:nvPr/>
        </p:nvSpPr>
        <p:spPr>
          <a:xfrm>
            <a:off x="250920" y="765000"/>
            <a:ext cx="60483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224b50"/>
                </a:solidFill>
                <a:latin typeface="Arial"/>
              </a:rPr>
              <a:t>Free PPT Backgrou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560" y="1125360"/>
            <a:ext cx="3476520" cy="9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Slide M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560" y="2349360"/>
            <a:ext cx="50418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4716360" y="4437000"/>
            <a:ext cx="40309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Group Presentation Overview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Project Descriptio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1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92000" y="1196640"/>
            <a:ext cx="34765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2987640" y="2852640"/>
            <a:ext cx="504036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  <a:ea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  <a:ea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hiko</cp:lastModifiedBy>
  <dcterms:modified xsi:type="dcterms:W3CDTF">2012-12-25T19:19:50Z</dcterms:modified>
  <cp:revision>749</cp:revision>
  <dc:subject/>
  <dc:title>Diapositiva 1</dc:title>
</cp:coreProperties>
</file>